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0A6-C435-4908-B729-6CD64245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C54-CDD9-4BC9-8BE5-2D9C3B8A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0B5A-8741-42A2-A137-5D3F0926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809C-807A-458F-95B1-95FAFF27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20D-55FF-4769-B01E-F198B453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BD43-3AB6-4A90-9BBF-6EF35CF9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49D4-22BB-4E9D-A2AD-BCFC1D18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271-6205-4563-B2F3-7D07C349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9DBF-7627-4B11-AED6-BDACFA4E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A801-4273-4CEF-B519-0F85E686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29A-7FDA-497B-A87F-BDCBB3C5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7CF-B47D-4782-8434-B21A7D97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85B7-2099-4B72-A8E7-91109B604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2133720" y="1676520"/>
            <a:ext cx="4572000" cy="2743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/>
          <p:cNvSpPr/>
          <p:nvPr/>
        </p:nvSpPr>
        <p:spPr>
          <a:xfrm>
            <a:off x="304920" y="533520"/>
            <a:ext cx="274320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6"/>
          <p:cNvSpPr/>
          <p:nvPr/>
        </p:nvSpPr>
        <p:spPr>
          <a:xfrm>
            <a:off x="3352680" y="152280"/>
            <a:ext cx="2743200" cy="8384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6172200" y="685800"/>
            <a:ext cx="2743200" cy="10666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3200400" y="5410080"/>
            <a:ext cx="2743200" cy="10670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"/>
          <p:cNvSpPr/>
          <p:nvPr/>
        </p:nvSpPr>
        <p:spPr>
          <a:xfrm>
            <a:off x="0" y="4419720"/>
            <a:ext cx="2743200" cy="10666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6172200" y="4419720"/>
            <a:ext cx="274320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1600200" y="1447920"/>
            <a:ext cx="11430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2"/>
          <p:cNvSpPr/>
          <p:nvPr/>
        </p:nvSpPr>
        <p:spPr>
          <a:xfrm flipH="1">
            <a:off x="1676520" y="3809880"/>
            <a:ext cx="83808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4267080" y="4419720"/>
            <a:ext cx="763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6248520" y="3809880"/>
            <a:ext cx="106668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 flipV="1">
            <a:off x="6019920" y="1752120"/>
            <a:ext cx="14475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7"/>
          <p:cNvSpPr/>
          <p:nvPr/>
        </p:nvSpPr>
        <p:spPr>
          <a:xfrm flipH="1">
            <a:off x="4572000" y="9907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7:35:48Z</dcterms:created>
  <dc:creator> </dc:creator>
  <dc:description/>
  <dc:language>en-US</dc:language>
  <cp:lastModifiedBy>teacher</cp:lastModifiedBy>
  <dcterms:modified xsi:type="dcterms:W3CDTF">2011-03-05T09:22:43Z</dcterms:modified>
  <cp:revision>4</cp:revision>
  <dc:subject/>
  <dc:title>Slide 1</dc:title>
</cp:coreProperties>
</file>